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E41-C2B3-4F2D-9E56-72D1633C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35B-1C6F-455A-A61C-F5CA85C3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95D-69E1-4C83-9F5B-82D86593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FC0-5B7A-4FF1-BD40-D1AEA3F5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9406-79D6-4666-90BA-696A8AD7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C16E-CE9F-499E-A00D-861A85DB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6BFB-A7C6-41C9-B770-25BC5597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D158-BD2C-4DA4-A146-2A5DA324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2EEE-E86C-4914-862E-50FB77EE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F2D7-8F59-4FBF-9D5F-1BCF2F72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6E1A-CDD7-43E2-82AE-07AD3FB3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3B5-E287-42C4-9DEE-53DA23C8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6794-37BB-4181-8947-DD7E2D4A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81CE-9A8F-47DB-9E0A-80BDE6A9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FA14-8EC6-4771-A4FA-A0C28D22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DADF-CB7A-4490-AC82-22651DBB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74E9-27F2-4051-A7F0-A3AEF727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BBF-EFB2-4E08-AA7D-7FBD2CEB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705-38EB-47E7-A2C4-71D5D67C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702-D809-4F04-B6F7-CFF497EA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FFB-0E1F-4C02-9988-7E862BC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8C9-DF01-4406-87F8-FB30871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924-AFC0-464F-ABC5-1F78AF66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A78-7BAA-4B0D-961A-32041027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9B1D-C061-47E8-AF70-9173A9D432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6D04-A887-49B3-AC08-5E9B63C7FE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lfhtml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TM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 Sprache des W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as ist HTM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ie sieht ein Befehl/Tag au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Beispielta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Grundgerü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eiterentwicklu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Links bzw. Tutori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HTM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Eine Auszeichnungssprache mit der eine Webseite dargestellt wi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HTML bedeutet „Hyper Text MarkUp Language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HTML ist da um den Inhalt logische Strukturen zu verleihen, damit auch die Maschinen die Bedeutung erschließen kön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Kann man mit Notepad oder Editor mach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e sieht ein Befehl/Tag au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er Tag besteht aus zwei eckigen Klammern, z.B. &lt;html&gt; (binnen der Klammern ist der Ta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Jeder gestartete Tag muss  </a:t>
            </a: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meistens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auch einen schließenden Tag haben, z.B. &lt;/html&gt; (gekennzeichnet durch Schrägstri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ags wie &lt;br&gt; haben keinen geschlossenen Ta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ispielta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hx&gt; Steht für Überschrifte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p&gt; leitet einen Textabsatz e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b&gt;, &lt;i&gt;, &lt;u&gt; für fett, kursiv und unterstri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ndgerü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!DOCTYPE html PUBLIC "-//W3C//DTD XHTML 1.0 Transitional//EN"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"http://www.w3.org/TR/xhtml1/DTD/xhtml1-transitional.dtd"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html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body&gt;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ch kann es !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/body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/html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iterentwicklu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Styleshe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ynamisches 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Links/Tuto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elfhtml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planetHTML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3:02:34Z</dcterms:created>
  <dc:creator>EB</dc:creator>
  <dc:description/>
  <dc:language>en-US</dc:language>
  <cp:lastModifiedBy>EB</cp:lastModifiedBy>
  <dcterms:modified xsi:type="dcterms:W3CDTF">2006-02-13T16:28:02Z</dcterms:modified>
  <cp:revision>4</cp:revision>
  <dc:subject/>
  <dc:title>HTML</dc:title>
</cp:coreProperties>
</file>