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A91-64F5-43BE-A108-2727F687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90F-3073-4C41-921F-A281D6BB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605-FA8F-48F4-9AAF-448EFC1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441-7BFB-450A-A3EE-AF625BCA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0310-15F7-4319-BEEA-054B480A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801-6BB9-4755-8F36-3A7074E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4CE-AD43-4141-82FC-861801B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9959-5C96-4CA6-BBDA-97B2FD87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B309-CD1C-4284-A7CB-E8428751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56D-783A-40B3-9D3D-A37AB42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D9F2-D9EB-4503-B724-0CD6189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0A-5113-4A55-A67D-BA14F44D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009-355F-4FAB-A1B1-D8E8F5E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C6C-3D69-4D90-AB8A-84D124E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476C-3CF1-47B2-8CBC-5D3ED635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97C7-4CF3-4EBA-BEDB-4C550CC0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BEB1-5EC9-40D8-AA99-B1AEDE19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F64-CB21-409B-90B1-37C7ACF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C9D-2018-4E00-BA65-98C78E84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E7A-F4A0-440D-9143-6AE4551C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FDC-F6B6-483B-B94E-D6A9A96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205-3150-406D-8D7E-6C976444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8BE-BB98-4697-B676-6A85DC65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9EB-8020-4831-9785-5DE1A88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959-1D5F-408D-95C8-803B13DE08F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513D-03EB-45BE-950F-4669925138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lfhtml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TM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 Sprache des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altsverzeichn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as ist HTM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ie sieht ein Befehl/Tag au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Beispielta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rundgerü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entwick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Links bzw. Tuto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HTM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Eine Auszeichnungssprache mit der eine Webseite dargestellt wi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bedeutet „Hyper Text MarkUp Language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HTML ist da um den Inhalt logische Strukturen zu verleihen, damit auch die Maschinen die Bedeutung erschließen kö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Kann man mit Notepad oder Editor mach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e sieht ein Befehl/Tag a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er Tag besteht aus zwei eckigen Klammern, z.B. &lt;html&gt; (binnen der Klammern ist der Ta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Jeder gestartete Tag muss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meistens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auch einen schließenden Tag haben, z.B. &lt;/html&gt; (gekennzeichnet durch Schrägstri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gs wie &lt;br&gt; haben keinen geschlossenen Ta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ispielta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hx&gt; Steht für Überschrifte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p&gt; leitet einen Textabsatz 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&lt;b&gt;, &lt;i&gt;, &lt;u&gt; für fett, kursiv und unterstric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ndgerü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!DOCTYPE html PUBLIC "-//W3C//DTD XHTML 1.0 Transitional//EN"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"http://www.w3.org/TR/xhtml1/DTD/xhtml1-transitional.dtd"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html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body&gt;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Ich kann es !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body&gt;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&lt;/html&gt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iterentwickl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Styleshe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Dynamisches 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Links/Tuto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www.selfhtml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ww.planetHTML.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3:02:34Z</dcterms:created>
  <dc:creator>EB</dc:creator>
  <dc:description/>
  <dc:language>en-US</dc:language>
  <cp:lastModifiedBy>EB</cp:lastModifiedBy>
  <dcterms:modified xsi:type="dcterms:W3CDTF">2006-02-13T16:28:02Z</dcterms:modified>
  <cp:revision>4</cp:revision>
  <dc:subject/>
  <dc:title>HTML</dc:title>
</cp:coreProperties>
</file>