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7BF-14CF-48C7-883D-F99B4626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3B0-8925-45F0-AC67-DB72B7E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E9F-5828-4584-B443-505AC190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ED8-3582-4300-A642-2CE38C61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96A4-0D9A-4CA2-8B0D-27D2F838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C735-7434-43A1-9EF3-948103D1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5BB0-A82B-44F8-AA4A-401B2C1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6C28-4BF1-4AF3-82A5-5705833F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DFC4-EFAE-4D4F-AB54-1F8C74B8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0A1E-36C9-4D0B-BE18-1434372B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C7B5-E720-4704-BAA9-AAC1983F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745-5908-435F-A588-AB7E7379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43BB-217D-49B0-B991-E9063FDC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2A13-7E5E-4C5F-8363-6E1C321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12D-060E-4460-AE5C-1B80559B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01B4-891C-4D60-8978-D73A85A8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C5AE-0CA7-410C-9006-BCF0CFAC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18D-5761-44CA-8D63-BDE70511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459-676F-4FB5-931D-C55FA196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065-C747-485C-806B-DCAB5993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373-BF79-4A4A-BAEA-B981C8F6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718-1163-4F01-B484-041DDB07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599-30E7-4016-9E96-530B495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E4E-C470-45ED-A204-89D286ED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C6EA-1855-449D-9E46-3D568869B6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6BAC-B67F-4AAC-90C8-A79E01709A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lfhtml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TM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 Sprache des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as ist HTM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ie sieht ein Befehl/Tag a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Beispielta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Grundgerü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eiterentwicklu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Links bzw. Tutor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HTM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Eine Auszeichnungssprache mit der eine Webseite dargestellt wi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HTML bedeutet „Hyper Text MarkUp Language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HTML ist da um den Inhalt logische Strukturen zu verleihen, damit auch die Maschinen die Bedeutung erschließen kön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Kann man mit Notepad oder Editor mach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e sieht ein Befehl/Tag a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er Tag besteht aus zwei eckigen Klammern, z.B. &lt;html&gt; (binnen der Klammern ist der Ta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Jeder gestartete Tag muss  </a:t>
            </a: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meistens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auch einen schließenden Tag haben, z.B. &lt;/html&gt; (gekennzeichnet durch Schrägstri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ags wie &lt;br&gt; haben keinen geschlossenen Ta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ispielta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hx&gt; Steht für Überschrifte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p&gt; leitet einen Textabsatz e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b&gt;, &lt;i&gt;, &lt;u&gt; für fett, kursiv und unterstri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gerü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!DOCTYPE html PUBLIC "-//W3C//DTD XHTML 1.0 Transitional//EN"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"http://www.w3.org/TR/xhtml1/DTD/xhtml1-transitional.dtd"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html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body&gt;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ch kann es !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/body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/html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iterentwickl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ynamisches 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Links/Tuto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elfhtm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planetHTML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3:02:34Z</dcterms:created>
  <dc:creator>EB</dc:creator>
  <dc:description/>
  <dc:language>en-US</dc:language>
  <cp:lastModifiedBy>EB</cp:lastModifiedBy>
  <dcterms:modified xsi:type="dcterms:W3CDTF">2006-02-13T16:28:02Z</dcterms:modified>
  <cp:revision>4</cp:revision>
  <dc:subject/>
  <dc:title>HTML</dc:title>
</cp:coreProperties>
</file>