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35E-2713-409E-83E9-1C3FEB2C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4E3-86A5-4FD9-A565-14157381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5E2-8BD5-4972-91EF-6BC6F460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98F-A88D-4DD5-A494-D53E1D37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C7F6-C21E-4D1D-84C7-CB4AE4BA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06D5-6C90-447D-84C2-8F2FCB34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293D-DCA0-4FE7-B3F8-C0735F28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918D-7091-4039-BA8C-3DA65555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BD04-6583-4F74-BE95-55A09C81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E1A7-2847-401B-8AAC-66125417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0F8-57B9-4995-96D3-FF1A451A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369-55ED-44EB-AFCC-EAC2DA94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09E8-DA65-4D82-A5B6-0135EA96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0A14-57CC-487B-A01B-EDEC261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E7D5-114E-402B-ACDC-13AC720E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9B62-000E-4B54-B644-CDC4BD5B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83CC-53A5-4325-921D-D9D5FC5A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047-4030-42E7-8CB7-D0207A7C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722-CA70-4DFF-B267-B4729503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426-2563-4389-8509-2DDA803C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38E-93B7-455C-8E7F-C1B156ED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229-0668-4EF1-A62A-01F5BE90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63E-A973-45E8-B990-F6B763A0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621-B165-4C43-BA10-5FE6D72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3B1-C87E-4AF4-AB27-09BBCD6D4B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01B6-07DA-417C-9565-7F2B4B2034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lfhtml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TM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 Sprache des W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s ist HTM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e sieht ein Befehl/Tag au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undbefeh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undgerü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HTM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ine Skriptsprache mit der eine Webseite dargestellt wi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 bedeutet „Hyper Text  MarkUp Language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 besteht aus bestimmten Befehlen, die einen Text z.B. fett machen oder unterstrei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n man mit Notepad oder Editor ma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e sieht ein Befehl/Tag au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r Befehl besteht aus zwei eckigen Klammern, z.B. &lt;html&gt; (binnen der Klammern ist der Befeh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der gestartete Befehl muss auch einen schließenden Befehl haben, z.B. &lt;/html&gt; (gekennzeichnet durch Schrägstri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befeh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b&gt;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TT schreib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b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i&gt;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KURSIV schreib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i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u&gt;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NTERSTRICHEN schreib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u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br&gt; Erzeugt einen Zeilenumbruc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gerü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html&gt;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body&gt;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Ich kann es !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/body&gt;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/html&gt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Verdana"/>
              </a:rPr>
              <a:t>&lt;body&gt; steht für den „Körper“ des Textes und alles was innerhalb der Befehlen steht zeigt der Browser dar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iterentwicklu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Styleshe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ynamisches 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Links/Tuto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elfhtml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planetHTML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3:02:34Z</dcterms:created>
  <dc:creator>EB</dc:creator>
  <dc:description/>
  <dc:language>en-US</dc:language>
  <cp:lastModifiedBy>EB</cp:lastModifiedBy>
  <dcterms:modified xsi:type="dcterms:W3CDTF">2006-02-08T15:14:09Z</dcterms:modified>
  <cp:revision>3</cp:revision>
  <dc:subject/>
  <dc:title>HTML</dc:title>
</cp:coreProperties>
</file>