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CF7-8A48-4BEF-963E-A1CE0A0D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44A-B78D-496B-918D-D8598F8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F61-31D2-4D94-86A4-77AB1F8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14F-6D03-44AA-96B8-407C596C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8FD2-8473-4374-9A54-84A27794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713E-AFC3-4F5D-89DA-A1988764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A659-49FF-43C0-B9EB-5C26DBC4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C4F-E74E-44E8-987C-2BBEEC9F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FBF4-5A82-4B4E-8823-B6E87849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02B6-3E66-418D-A522-8F51396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855-D073-4737-AC99-30A502B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A0E-27AB-4A90-8E34-AAC4DE9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35E-F9FB-422B-9FFC-6CF3B79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AB7-12B1-4B36-B133-E0239E95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980A-027E-4632-8DCB-28755068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1323-C00E-4B47-9D2E-5ABAA65A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5558-2156-40F0-8205-27440A60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307-84BD-48F0-9DA4-5A42114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C85-6413-42EC-86E0-899F8758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BCB-22F7-476F-A72C-B49FC86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1C7-10FE-4B2D-A764-FEC7211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B80-28DF-4476-838B-CB52BAC9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184-8707-4B07-A6DB-A60AB6EE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AF4-BC38-4707-9540-7C99B96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5529-C604-4610-A3BA-3904811AEB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E646-479C-4607-839F-726A160698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ndbefeh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e Skriptsprache mit der eine Webseite dargestellt wi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 bedeutet „Hyper Text  MarkUp Language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 besteht aus bestimmten Befehlen, die einen Text z.B. fett machen oder unterstre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r Befehl besteht aus zwei eckigen Klammern, z.B. &lt;html&gt; (binnen der Klammern ist der Befe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der gestartete Befehl muss auch einen schließenden Befehl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befeh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b&gt;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TT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b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i&gt;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KURSIV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i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u&gt;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TERSTRICHEN schreib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/u&g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lt;br&gt; Erzeugt einen Zeilenumbru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Verdana"/>
              </a:rPr>
              <a:t>&lt;body&gt; steht für den „Körper“ des Textes und alles was innerhalb der Befehlen steht zeigt der Browser da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08T15:14:09Z</dcterms:modified>
  <cp:revision>3</cp:revision>
  <dc:subject/>
  <dc:title>HTML</dc:title>
</cp:coreProperties>
</file>